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4DE6-BF00-4D10-9AB8-FFB6FEE37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ther words, Dick and Jane aren’t dead; they’re just busy updating their Wikipedia entry.</a:t>
            </a: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0A273-3758-42D8-92CF-D8FFDCF50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DAFB3-CB69-4B78-9703-073B6C855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AF00A-8788-405C-A3A0-F1D7C79E4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40208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52096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70214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0208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552096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70214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6BF11-5483-4B5C-9DF9-7A65C4D37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0C8A3-3672-476E-ABD0-D0A3C543A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7340-A88C-4D12-A994-21E426BC4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62A57-1AB3-4013-B073-E645E5F9C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511D4-1699-4880-8FCC-B3BAEA23A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A58B9-D88E-4083-9225-5F5F34CDA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79400" y="1447560"/>
            <a:ext cx="7678800" cy="501264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B0E29-C7AE-44E8-AD6F-E78D117D7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B7E74-A4C6-4A5C-BDE8-CF6ADB940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D31A-9F59-468A-9FF5-3D69DBC2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BA1F9-C2B6-4976-9C31-214001E23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26762-7F62-4F5E-929A-5F00CF2DC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E20E-3B30-4722-B271-0CA6F382E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D70A5-8A7C-4B3C-BC0A-37D4E747D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40208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52096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7021440" y="286056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0208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552096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7021440" y="4487400"/>
            <a:ext cx="1428480" cy="1485360"/>
          </a:xfrm>
          <a:prstGeom prst="rect">
            <a:avLst/>
          </a:prstGeom>
          <a:noFill/>
          <a:ln w="0">
            <a:noFill/>
          </a:ln>
        </p:spPr>
        <p:txBody>
          <a:bodyPr lIns="0" rIns="0" tIns="0" bIns="0" anchor="t">
            <a:normAutofit fontScale="9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19795-5AE0-4174-9F4D-465E17ADC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F38D-9D6A-447B-84AB-A843C2956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5FFF0-C6AA-495F-ACB9-FB662DD38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39069-2C78-4BA6-A981-A4AC030B7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779400" y="1447560"/>
            <a:ext cx="7678800" cy="501264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B0687-A3B6-42A0-A836-FD6B8AD36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7028-336F-4FE3-8D83-3B86C1034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709A-B1DB-46D2-A7FD-F0FFFE0D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140D-CFBD-4954-901A-3FB71821B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CC6B-8255-44A8-803F-93AE84C4967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6B0F-D4A6-464C-BCD2-2BFCDEA4B9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schomberg@gmail.com" TargetMode="External"/><Relationship Id="rId2" Type="http://schemas.openxmlformats.org/officeDocument/2006/relationships/hyperlink" Target="mailto:jschomberg@gmail.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ea.gov/research/ToRead.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480"/>
            <a:ext cx="7696080" cy="19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acher Librarian’s Role in Reading and Literacy K-12</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b St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tein@mchsi.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ie Schomber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a:hlinkClick r:id="rId1"/>
              </a:rPr>
              <a:t>jschomberg@gmail</a:t>
            </a:r>
            <a:r>
              <a:rPr b="0" lang="en-US" sz="2400" spc="-1" strike="noStrike" u="sng">
                <a:solidFill>
                  <a:srgbClr val="336699"/>
                </a:solidFill>
                <a:uFillTx/>
                <a:latin typeface="Arial"/>
                <a:hlinkClick r:id="rId2"/>
              </a:rPr>
              <a:t>.co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tone AE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2,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6" name="PlaceHolder 2"/>
          <p:cNvSpPr>
            <a:spLocks noGrp="1"/>
          </p:cNvSpPr>
          <p:nvPr>
            <p:ph/>
          </p:nvPr>
        </p:nvSpPr>
        <p:spPr>
          <a:xfrm>
            <a:off x="-360" y="228600"/>
            <a:ext cx="9023400" cy="6400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112680" y="133200"/>
            <a:ext cx="8917200" cy="659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Arial"/>
              </a:rPr>
              <a:t>Reading and the School Library</a:t>
            </a:r>
            <a:endParaRPr b="0" lang="en-US" sz="4400" spc="-1" strike="noStrike">
              <a:solidFill>
                <a:srgbClr val="003366"/>
              </a:solidFill>
              <a:latin typeface="Arial"/>
            </a:endParaRPr>
          </a:p>
        </p:txBody>
      </p:sp>
      <p:sp>
        <p:nvSpPr>
          <p:cNvPr id="23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natural co-teacher of reading, the library media specialist collaborates with teachers on the strategies and skills taught in the classroom to promote a love of reading and literature for lifelong reading and learning.  The library media specialist, as a teacher-librarian, develops a partnership with classroom teachers and works directly with students and teachers to achieve the bottom line: higher reading proficiency of all students.”</a:t>
            </a:r>
            <a:endParaRPr b="0" lang="en-US" sz="2800" spc="-1" strike="noStrike">
              <a:solidFill>
                <a:srgbClr val="000000"/>
              </a:solidFill>
              <a:latin typeface="Arial"/>
            </a:endParaRPr>
          </a:p>
          <a:p>
            <a:pPr marL="2743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Department of Public Instruction</a:t>
            </a:r>
            <a:endParaRPr b="0" lang="en-US" sz="2000" spc="-1" strike="noStrike">
              <a:solidFill>
                <a:srgbClr val="000000"/>
              </a:solidFill>
              <a:latin typeface="Arial"/>
            </a:endParaRPr>
          </a:p>
          <a:p>
            <a:pPr marL="2743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dpi.wisconsin.gov/imt/rdgslmp/html(8/28/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acher Librarian as Literacy Leader</a:t>
            </a:r>
            <a:endParaRPr b="0" lang="en-US" sz="4400" spc="-1" strike="noStrike">
              <a:solidFill>
                <a:srgbClr val="003366"/>
              </a:solidFill>
              <a:latin typeface="Arial"/>
            </a:endParaRPr>
          </a:p>
        </p:txBody>
      </p:sp>
      <p:sp>
        <p:nvSpPr>
          <p:cNvPr id="24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chool library media specialists must also understand those skills that students need to read and, most importantly, to read for understanding.  The SLMS has the special expertise necessary to bridge the technical skills of reading with the experiential side of reading.”</a:t>
            </a:r>
            <a:endParaRPr b="0" lang="en-US" sz="2800" spc="-1" strike="noStrike">
              <a:solidFill>
                <a:srgbClr val="000000"/>
              </a:solidFill>
              <a:latin typeface="Arial"/>
            </a:endParaRPr>
          </a:p>
          <a:p>
            <a:pPr marL="318960"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ie Walker, Executive Director of AASL</a:t>
            </a:r>
            <a:r>
              <a:rPr b="0" lang="en-US" sz="2800" spc="-1" strike="noStrike">
                <a:solidFill>
                  <a:srgbClr val="000000"/>
                </a:solidFill>
                <a:latin typeface="Arial"/>
              </a:rPr>
              <a:t>  </a:t>
            </a:r>
            <a:br>
              <a:rPr sz="2800"/>
            </a:br>
            <a:r>
              <a:rPr b="0" lang="en-US" sz="1300" spc="-1" strike="noStrike">
                <a:solidFill>
                  <a:srgbClr val="000000"/>
                </a:solidFill>
                <a:latin typeface="Arial"/>
              </a:rPr>
              <a:t>Cart, Michael,</a:t>
            </a:r>
            <a:r>
              <a:rPr b="0" i="1" lang="en-US" sz="1300" spc="-1" strike="noStrike">
                <a:solidFill>
                  <a:srgbClr val="000000"/>
                </a:solidFill>
                <a:latin typeface="Arial"/>
              </a:rPr>
              <a:t>Teacher-Librarian as Literacy Leader, </a:t>
            </a:r>
            <a:br>
              <a:rPr sz="1300"/>
            </a:br>
            <a:r>
              <a:rPr b="0" lang="en-US" sz="1300" spc="-1" strike="noStrike" u="sng">
                <a:solidFill>
                  <a:srgbClr val="000000"/>
                </a:solidFill>
                <a:uFillTx/>
                <a:latin typeface="Arial"/>
              </a:rPr>
              <a:t>Teacher Librarian</a:t>
            </a:r>
            <a:r>
              <a:rPr b="0" lang="en-US" sz="1300" spc="-1" strike="noStrike">
                <a:solidFill>
                  <a:srgbClr val="000000"/>
                </a:solidFill>
                <a:latin typeface="Arial"/>
              </a:rPr>
              <a:t>, February 07, pp. 8-1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ving Toward a Common Understanding</a:t>
            </a:r>
            <a:endParaRPr b="0" lang="en-US" sz="4400" spc="-1" strike="noStrike">
              <a:solidFill>
                <a:srgbClr val="003366"/>
              </a:solidFill>
              <a:latin typeface="Arial"/>
            </a:endParaRPr>
          </a:p>
        </p:txBody>
      </p:sp>
      <p:sp>
        <p:nvSpPr>
          <p:cNvPr id="24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  The School Library Media Teacher’s role in Increasing Reading Comprehension: Why School Library Media Teachers Need to Facilitate Reading Comprehension CSLA Presentation by Linda Cornwell, May 05.</a:t>
            </a: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bhsd.k12.ca.us/sbhslib/reading/cslareading.pdf,   pp. 5-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60"/>
            <a:ext cx="8348760" cy="162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ecking in with Standards, Guidelines, Frameworks</a:t>
            </a:r>
            <a:endParaRPr b="0" lang="en-US" sz="4400" spc="-1" strike="noStrike">
              <a:solidFill>
                <a:srgbClr val="003366"/>
              </a:solidFill>
              <a:latin typeface="Arial"/>
            </a:endParaRPr>
          </a:p>
        </p:txBody>
      </p:sp>
      <p:sp>
        <p:nvSpPr>
          <p:cNvPr id="24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ASL Standards for the 21st-Century Learner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la.org/aasl/standards</a:t>
            </a:r>
            <a:endParaRPr b="0" lang="en-US" sz="2400" spc="-1" strike="noStrike">
              <a:solidFill>
                <a:srgbClr val="000000"/>
              </a:solidFill>
              <a:latin typeface="Arial"/>
            </a:endParaRPr>
          </a:p>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owa School Library Program Guidelines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owa.gov/educate/content/view/959/493/</a:t>
            </a:r>
            <a:endParaRPr b="0" lang="en-US" sz="2400" spc="-1" strike="noStrike">
              <a:solidFill>
                <a:srgbClr val="000000"/>
              </a:solidFill>
              <a:latin typeface="Arial"/>
            </a:endParaRPr>
          </a:p>
          <a:p>
            <a:pPr marL="46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ample Information Literacy Curriculum Framework (2007)</a:t>
            </a:r>
            <a:endParaRPr b="0" lang="en-US" sz="2800" spc="-1" strike="noStrike">
              <a:solidFill>
                <a:srgbClr val="000000"/>
              </a:solidFill>
              <a:latin typeface="Arial"/>
            </a:endParaRPr>
          </a:p>
          <a:p>
            <a:pPr marL="469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tatelibraryofiowa.org/ld/school-librarians/reqandsupp/sampl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609480"/>
            <a:ext cx="7696080" cy="191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eacher Librarian’s Role in Reading and Literacy K-12</a:t>
            </a:r>
            <a:endParaRPr b="0" lang="en-US" sz="4400" spc="-1" strike="noStrike">
              <a:solidFill>
                <a:srgbClr val="003366"/>
              </a:solidFill>
              <a:latin typeface="Arial"/>
            </a:endParaRPr>
          </a:p>
        </p:txBody>
      </p:sp>
      <p:sp>
        <p:nvSpPr>
          <p:cNvPr id="247"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b Stei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tein@mchsi.co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ie Schomber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chomberg@gmail.co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stone AE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2,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228600"/>
            <a:ext cx="8272440" cy="13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REVISIT and RE-VISION the role of the teacher librarian in promoting literacy and improving student achievement.</a:t>
            </a:r>
            <a:endParaRPr b="0" lang="en-US" sz="28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latest data on reading</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the role of nonfiction in reading to learn</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ways to differentiate resources for teachers and learners</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ading/literacy strategies to improve student achievement </a:t>
            </a:r>
            <a:endParaRPr b="0" lang="en-US" sz="2400" spc="-1" strike="noStrike">
              <a:solidFill>
                <a:srgbClr val="000000"/>
              </a:solidFill>
              <a:latin typeface="Arial"/>
            </a:endParaRPr>
          </a:p>
          <a:p>
            <a:pPr lvl="1" marL="683280" indent="-26280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ways to promote whole school lite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560" y="152280"/>
            <a:ext cx="796752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ading and Literacy: News and Views</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OR NOT TO READ - National Endowment for the Arts Literacy Stud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1"/>
              </a:rPr>
              <a:t>http://www.nea.gov/research/ToRead.pdf</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1:  Americans are reading les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2: Americans are reading less wel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22200" indent="-322200" algn="ctr">
              <a:spcBef>
                <a:spcPts val="11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nding #3: Declines in reading have civic, social and economic implic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e Kids Reading Less Today?</a:t>
            </a:r>
            <a:br>
              <a:rPr sz="2000"/>
            </a:br>
            <a:r>
              <a:rPr b="0" lang="en-US" sz="2000" spc="-1" strike="noStrike">
                <a:solidFill>
                  <a:srgbClr val="003366"/>
                </a:solidFill>
                <a:latin typeface="Arial"/>
              </a:rPr>
              <a:t>    Deborah Dillon, U of MN Professor</a:t>
            </a:r>
            <a:br>
              <a:rPr sz="2000"/>
            </a:br>
            <a:r>
              <a:rPr b="0" i="1" lang="en-US" sz="2000" spc="-1" strike="noStrike">
                <a:solidFill>
                  <a:srgbClr val="003366"/>
                </a:solidFill>
                <a:latin typeface="Arial"/>
              </a:rPr>
              <a:t>Minnesota Magazine</a:t>
            </a:r>
            <a:r>
              <a:rPr b="0" lang="en-US" sz="2000" spc="-1" strike="noStrike">
                <a:solidFill>
                  <a:srgbClr val="003366"/>
                </a:solidFill>
                <a:latin typeface="Arial"/>
              </a:rPr>
              <a:t>, March 2008 (11)</a:t>
            </a:r>
            <a:endParaRPr b="0" lang="en-US" sz="20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liferation of technology doesn’t mean people read less -- just that they read in new ways.</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broaden the notion of reading beyond just books that you carry around under your arm, you see a very different picture.</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kids, reading is about sharing ideas through social sites like MySpace and YouTube.  Reading is a social activity.</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ors have to think about what kids are doing outside of school and what we could do in school that helps them learn how to be critical consumers of all of the electronic text that they read.</a:t>
            </a:r>
            <a:endParaRPr b="0" lang="en-US" sz="2000" spc="-1" strike="noStrike">
              <a:solidFill>
                <a:srgbClr val="000000"/>
              </a:solidFill>
              <a:latin typeface="Arial"/>
            </a:endParaRPr>
          </a:p>
          <a:p>
            <a:pPr marL="294840" indent="-2948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houldn’t abandon traditional materials, but the days of experiencing information only through a book are gone.  It is too appealing, too available, and too interesting to use different media to understand and connect with id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228600"/>
            <a:ext cx="85345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NCTE Adolescent Literacy: A Policy Research Brief</a:t>
            </a:r>
            <a:br>
              <a:rPr sz="4000"/>
            </a:br>
            <a:endParaRPr b="0" lang="en-US" sz="40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th: “Literacy instruction is the responsibility of English teachers alone.”</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Each academic content area poses its own literacy challenges in terms of vocabulary, concepts, and top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mensions:</a:t>
            </a:r>
            <a:r>
              <a:rPr b="0" lang="en-US" sz="2800" spc="-1" strike="noStrike">
                <a:solidFill>
                  <a:srgbClr val="000000"/>
                </a:solidFill>
                <a:latin typeface="Arial"/>
              </a:rPr>
              <a:t> “By 4th grade, many students have learned a number of the basic processes of reading and writing; however, they still need to master literacy practices unique to different levels, disciplines, texts and situations.”</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 says:</a:t>
            </a:r>
            <a:r>
              <a:rPr b="0" lang="en-US" sz="2800" spc="-1" strike="noStrike">
                <a:solidFill>
                  <a:srgbClr val="000000"/>
                </a:solidFill>
                <a:latin typeface="Arial"/>
              </a:rPr>
              <a:t> “Adolescents are less likely to struggle when subject area teachers make the reading and writing approaches in a given content area clear and visible.”</a:t>
            </a:r>
            <a:endParaRPr b="0" lang="en-US" sz="2800" spc="-1" strike="noStrike">
              <a:solidFill>
                <a:srgbClr val="000000"/>
              </a:solidFill>
              <a:latin typeface="Arial"/>
            </a:endParaRPr>
          </a:p>
          <a:p>
            <a:pPr marL="2844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cte.org/collections/adolescentliteracy</a:t>
            </a:r>
            <a:br>
              <a:rPr sz="1400"/>
            </a:br>
            <a:r>
              <a:rPr b="0" lang="en-US" sz="1200" spc="-1" strike="noStrike">
                <a:solidFill>
                  <a:srgbClr val="000000"/>
                </a:solidFill>
                <a:latin typeface="Arial"/>
              </a:rPr>
              <a:t>(April 06)</a:t>
            </a:r>
            <a:endParaRPr b="0" lang="en-US" sz="1200" spc="-1" strike="noStrike">
              <a:solidFill>
                <a:srgbClr val="000000"/>
              </a:solidFill>
              <a:latin typeface="Arial"/>
            </a:endParaRPr>
          </a:p>
          <a:p>
            <a:pPr marL="2844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5:20:46Z</dcterms:created>
  <dc:creator>Steven Schomberg</dc:creator>
  <dc:description/>
  <dc:language>en-US</dc:language>
  <cp:lastModifiedBy>Steven Schomberg</cp:lastModifiedBy>
  <cp:lastPrinted>2008-04-20T18:30:20Z</cp:lastPrinted>
  <dcterms:modified xsi:type="dcterms:W3CDTF">2008-04-23T09:40:26Z</dcterms:modified>
  <cp:revision>42</cp:revision>
  <dc:subject/>
  <dc:title>The Teacher Librarian’s Role in Reading and Literacy K-12</dc:title>
</cp:coreProperties>
</file>